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EE3-DD98-422B-A0B8-015C1FD9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B98-0AD4-430B-B34F-6F8F7B72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5C5-C1C4-481A-A787-13836A3F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697-B4A7-443B-9936-08610A57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08EE-8EFD-4E32-ADCB-AF028BBC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EBE4-86F2-4120-A3AF-E4C365B7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0B1A-CFAB-485B-872C-546AAFA3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4948-538D-435C-A702-E626BCEE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B17D-F8FC-4E41-BAEC-3529EDC0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BC91-B475-4A7F-99D4-B1186E90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EB05-3F87-4485-8EF4-26FEDFAB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E7F-666B-4E70-B8C6-7244EFB3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A723-7F01-469B-A475-83F4242F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2B79-1671-4263-B2AC-2AF8F1D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EC28-9087-41B9-928E-394947C5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444E-3224-4D78-BA47-695A18DA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C196-851C-48CB-A7F2-5B0E79C9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711-40B2-4260-A6F5-91DE24A3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577-D514-4C3F-9CD8-0E2B02E4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5D1-D901-4871-8C2F-D5FB465F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412-EECC-49A1-837D-5F275D75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F49-87E1-46D9-B3A4-F184194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FC9-A0D4-4C71-A050-2DC18199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A25-ACB8-4B9E-9605-342A8204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3E82-94C3-48FE-ABFC-AC9432C4B3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BDE8-2165-4956-BBD0-653EEB59EB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Jephthah vs.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The Ammonite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udges 10:6 - 11: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ges 82 - 8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58128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go and possess the land your god, Chemosh, gave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homsoever the Lord our God shall drive out from before us, them will we possess.”   v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has possessed this land for 300 years, why are you now trying to get the la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ill judge this day between Israel and Amm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did not accept his reasoning  v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spirit came upon Jephthah  v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’s vow  v30-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defeats the Ammonites v32-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much given about the battle but it was a great slaughter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Vow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29-3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 Worships False Gods Agai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:6-9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d Baalim, Ashtaroth, gods of Syria, gods of Zidon, gods of Moab, gods of Ammon, gods of Philistines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rve the one true God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ing angry, God gave them over to the Philistines and the Ammonites  v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ressed 18 years  v7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focus now is on the Ammon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 “Cried Unto The Lord”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:10-1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ly, the gods (idols) were put away, they confessed their sins, and asked for deliverance  v10-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hears their cry  v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gathered against Israel at Gilead  v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s in Israel asked: Who will fight against the Ammonites?  v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Ma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-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ghty man of valor (brave, courageo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ileadite, son of Gilead and a harl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n from home by the legitimate 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nt to land of Tob (East of Sea of Galile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of freebooters (pira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me a bold and successful captain for the people of Gilea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bout Gilead..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ocky, mountainous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 of Jor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th of Bas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of the Arabian plate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of Moab and A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vation: between 2,000 – 3,000 f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d for its balm (a fragrant and healing ointment) collected from “balm of Gilead” trees and was worth twice its weight in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7908800">
            <a:off x="3563640" y="306612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 i l e a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4495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mon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486400" y="4419720"/>
            <a:ext cx="8380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Gi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800600" y="2743200"/>
            <a:ext cx="1447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094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T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360" y="1143000"/>
            <a:ext cx="198108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Deliverer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4-1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brought back to Gilead  v4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ders of Gilead made a deal with Jephthah  v6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it was conditional  v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made him head and captain over them  v10-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05740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752480"/>
            <a:ext cx="88390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’s negotiations with the Ammonites  v12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message to the king of Amm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 you want to fight against the Israelit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’s re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took the land from us when they came out of Egypt!  Restore the land peaceab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made another appeal  v14-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never took any land from A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om, Moab and Amorites refused passage to Israel, but the Amorites (Sihon their king) started a f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had delivered the land of the Amorites into the hand of Isra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phthah cites historical precedents against them invading under these condi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3:44:51Z</dcterms:created>
  <dc:creator>Frank D Vines</dc:creator>
  <dc:description/>
  <dc:language>en-US</dc:language>
  <cp:lastModifiedBy>Frank D Vines</cp:lastModifiedBy>
  <dcterms:modified xsi:type="dcterms:W3CDTF">2005-02-15T16:36:05Z</dcterms:modified>
  <cp:revision>20</cp:revision>
  <dc:subject/>
  <dc:title>Slide 1</dc:title>
</cp:coreProperties>
</file>